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800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47800" y="744480"/>
            <a:ext cx="495288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57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0" y="94330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FEAF1-887C-4156-8DF1-2529C7A09D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F8E81-3C37-41F0-9D13-5EA38B259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"/>
          <p:cNvSpPr/>
          <p:nvPr/>
        </p:nvSpPr>
        <p:spPr>
          <a:xfrm>
            <a:off x="3780000" y="943308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71C0C-5EF2-4BEB-A079-E2BCC00DE8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780000" y="94330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CB482-F2E8-49A0-82CC-6976BC65C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912960" y="744480"/>
            <a:ext cx="48463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EB96-B1F2-4CC3-AF0E-1168C9E9B2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780000" y="9433080"/>
            <a:ext cx="2889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9CA38-2FC2-46B9-A74E-E827196AA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12960" y="744480"/>
            <a:ext cx="4848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6401B-E834-4D41-83DC-142614672F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780000" y="9433080"/>
            <a:ext cx="2889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A5358-C4D4-468A-8A4C-5122BD110D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912960" y="744480"/>
            <a:ext cx="4848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 </a:t>
            </a:r>
            <a:fld id="{F315BB27-0143-40A7-AFF8-B8BA50D7AE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 </a:t>
            </a:r>
            <a:fld id="{CBF2285E-7B2F-4805-8C0F-CC345BAF1D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33320" y="744480"/>
            <a:ext cx="5207040" cy="39067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0480" y="4725720"/>
            <a:ext cx="5338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юджетная классификация Российской Федерации является группировкой доходов, расходов и источников финансирования дефицитов бюджетов бюджетной системы РФ, используемой для составления и исполнения бюджетов, составления бюджетной отчетности, обеспечивающей сопоставимость показателей бюджетов бюджетной системы РФ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ципы назначения, структуры кодов бюджетной классификации Российской Федерации, а также присвоение кодов составным частям бюджетной классификации РФ, которые в соответствии с Бюджетным кодексом РФ являются едиными для бюджетов бюджетной системы РФ, осуществляются Министерством финансов Российской Федераци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2600" y="0"/>
            <a:ext cx="667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онтракт TDP/QCBS/11 «Обучение функциональных специалистов методической базе»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обучения  «Бухгалтерский учет и отчетность в секторе государственного управления»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3780000" y="9433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3D063-C946-4528-8338-C1834D366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1974960" y="744480"/>
            <a:ext cx="2724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890280" y="4716360"/>
            <a:ext cx="48877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3780000" y="9433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5F7F7-A897-4E8B-89D0-BFB360F02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1974960" y="744480"/>
            <a:ext cx="2724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890280" y="4716360"/>
            <a:ext cx="48877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00A-CDAD-4846-909D-1291D8A1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3DA-26C2-46AD-B1C8-C9404D7B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82A-6038-4E48-8B7B-790C8362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3E7-36D5-4C14-B952-81C1874D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756B1-6949-45A3-869C-DC360E719A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FBEA-AC6B-49A5-9595-E4DBF39B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6A70-B710-4D2A-AF9B-3B149CA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B290-3239-4C23-89A0-C8AAA4D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AAA4-1414-4AF5-8CDD-029E4595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ABED-47C1-453B-B204-2DE46D56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B396-94F1-4F65-8F90-04CED11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D52-D8C3-471F-B498-726F25F7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1E566-B0A5-4806-99B0-68B7422B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8C57-A717-4A66-855F-86AEF3CB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447F5-0A41-46F2-AFCF-3848658F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C7EC-52CE-42B2-BE3B-351709D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3029-F071-459E-8149-EF8A0AE83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4EDC-3BFA-474F-B45B-2C3531A24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164E-0C32-4BCB-B902-E624EA4EE3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800-6B90-4876-AA3A-7972EB22A8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B03-6724-4198-95AE-32EFD17989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CFF-A73C-4957-AFF0-353E62EE6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921-C033-4EC9-AF14-9EF6809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F59-D43E-4B84-AD3A-FBAAB1F2AF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4789-EA50-4932-9F6A-8F1F8D16F7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970C-24DC-41FE-91AC-07FDD7A492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8DC-9E8C-4CA0-A8CF-D1D03A0BE3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D3E-ADC5-4A8D-B80E-C56D5645B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263-7CB3-4F38-B921-8922A8B41E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57C-C805-41AF-AA10-5D2F7667ED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113C-18A5-4DCA-A794-67F322B6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6EF7-6C38-4E1C-BC3A-81B0D80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7D1F-FE03-49DB-8692-815203C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658-95DB-4A8D-A1E0-59E2A4C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79ADA-52F5-47D2-AE5E-5F2C7EC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1011-B31F-4C7D-89C6-829D31A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2A82-34BB-4D0B-83B9-DB8603B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EC2F-330E-4CB1-9C8C-0C4DAB4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DD93-D56C-49B0-B623-147B95B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137F-5BC6-4C53-87A3-EDA9567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91D2-F66A-4518-B497-D6330EA1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89F8-F38C-47E7-8CCB-568C88E0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2B4C-62F3-436E-8092-69D3FD32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BE60-761B-4A3F-8181-E1C48AD6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C4C-23F5-42F7-AD44-ED9F552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1E6F-5AEF-4301-875E-19548A06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183B-8F4F-45F8-AD1D-99621188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5BEC4-E523-437E-826F-D22A3ED4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F515-0EF9-406A-9DFA-86A2F46A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030F-0F15-430F-B4A2-51AEC56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96CF-EE82-44B5-89E0-B1EA8E7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88FF-3672-409B-B77C-18321E0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F5B8-B9EA-42FE-BE4B-3A9C4AE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0016-AA63-4BDA-A227-F9A96D0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0206-6E70-4938-831D-818E73A2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D4F-7076-478D-A209-86A03F8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BE7B-A5C6-4FF3-86B7-FC7AF16A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901-4091-4E58-8392-7B435781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E86-F612-46B9-A8C7-6CB6F39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B21-6985-49C7-B9F8-62C8E06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8209D5D-6672-436E-9289-E5CF72CA1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354FF0-FDF3-4FFB-BAB9-422932832BD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8E88B6-5A75-453F-9497-9AEA66DC133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11" descr="MF_emblema [Converted]"/>
          <p:cNvPicPr/>
          <p:nvPr/>
        </p:nvPicPr>
        <p:blipFill>
          <a:blip r:embed="rId2"/>
          <a:stretch/>
        </p:blipFill>
        <p:spPr>
          <a:xfrm>
            <a:off x="154080" y="0"/>
            <a:ext cx="387360" cy="4395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3"/>
          <p:cNvSpPr/>
          <p:nvPr/>
        </p:nvSpPr>
        <p:spPr>
          <a:xfrm>
            <a:off x="541440" y="0"/>
            <a:ext cx="463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965880" y="-20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77240" y="-619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143ADD-BE69-47E3-AA50-8CC4B1C703B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0085FB-22A6-4FD2-A98E-0E7E2E74DE9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8340ED-F56B-4DE1-A146-2B3F874CFAA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6.png"/><Relationship Id="rId15" Type="http://schemas.openxmlformats.org/officeDocument/2006/relationships/image" Target="../media/image18.png"/><Relationship Id="rId16" Type="http://schemas.openxmlformats.org/officeDocument/2006/relationships/image" Target="../media/image16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24000" y="2684520"/>
            <a:ext cx="879444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Основные вопросы порядка  примен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бюджетной классифик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Российской Федерации в 2013 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Формиров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рограммной классификации расходов бюдже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24000" y="5373720"/>
            <a:ext cx="863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Начальник Отдела методологии бюджетной классифик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Департамента бюджетной политики и метод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узьмин И.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одержимое 9"/>
          <p:cNvSpPr/>
          <p:nvPr/>
        </p:nvSpPr>
        <p:spPr>
          <a:xfrm>
            <a:off x="-98280" y="1405080"/>
            <a:ext cx="89913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-152280" y="439560"/>
            <a:ext cx="9144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структуры бюджетной классификации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41360" y="1052640"/>
          <a:ext cx="8594640" cy="79200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1150920"/>
                <a:gridCol w="3960720"/>
                <a:gridCol w="1152720"/>
                <a:gridCol w="961920"/>
              </a:tblGrid>
              <a:tr h="792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4652d"/>
                          </a:solidFill>
                          <a:latin typeface="Times New Roman"/>
                          <a:ea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</a:tr>
            </a:tbl>
          </a:graphicData>
        </a:graphic>
      </p:graphicFrame>
      <p:cxnSp>
        <p:nvCxnSpPr>
          <p:cNvPr id="278" name="Прямая со стрелкой 15"/>
          <p:cNvCxnSpPr/>
          <p:nvPr/>
        </p:nvCxnSpPr>
        <p:spPr>
          <a:xfrm>
            <a:off x="80136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Номер слайда 8"/>
          <p:cNvSpPr/>
          <p:nvPr/>
        </p:nvSpPr>
        <p:spPr>
          <a:xfrm>
            <a:off x="7291440" y="0"/>
            <a:ext cx="148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BB19-6BD3-4391-A26B-B01674644660}" type="slidenum"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103320" y="1047600"/>
            <a:ext cx="65736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26960" y="5300640"/>
          <a:ext cx="8594640" cy="824040"/>
        </p:xfrm>
        <a:graphic>
          <a:graphicData uri="http://schemas.openxmlformats.org/drawingml/2006/table">
            <a:tbl>
              <a:tblPr/>
              <a:tblGrid>
                <a:gridCol w="662040"/>
                <a:gridCol w="720720"/>
                <a:gridCol w="1152720"/>
                <a:gridCol w="1655640"/>
                <a:gridCol w="2376360"/>
                <a:gridCol w="1079640"/>
                <a:gridCol w="947520"/>
              </a:tblGrid>
              <a:tr h="8240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оспрограмма, подпрограмма/ ФЦ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4652d"/>
                          </a:solidFill>
                          <a:latin typeface="Times New Roman"/>
                          <a:ea typeface="Times New Roman"/>
                        </a:rPr>
                        <a:t>Направление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</a:tr>
            </a:tbl>
          </a:graphicData>
        </a:graphic>
      </p:graphicFrame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-103320" y="5224320"/>
            <a:ext cx="657360" cy="1017720"/>
          </a:xfrm>
          <a:prstGeom prst="rect">
            <a:avLst/>
          </a:prstGeom>
          <a:ln w="0">
            <a:noFill/>
          </a:ln>
        </p:spPr>
      </p:pic>
      <p:cxnSp>
        <p:nvCxnSpPr>
          <p:cNvPr id="283" name="Прямая со стрелкой 29"/>
          <p:cNvCxnSpPr/>
          <p:nvPr/>
        </p:nvCxnSpPr>
        <p:spPr>
          <a:xfrm>
            <a:off x="147600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Прямая со стрелкой 30"/>
          <p:cNvCxnSpPr/>
          <p:nvPr/>
        </p:nvCxnSpPr>
        <p:spPr>
          <a:xfrm>
            <a:off x="238572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85" name=""/>
          <p:cNvGraphicFramePr/>
          <p:nvPr/>
        </p:nvGraphicFramePr>
        <p:xfrm>
          <a:off x="2960640" y="2349360"/>
          <a:ext cx="2592360" cy="792360"/>
        </p:xfrm>
        <a:graphic>
          <a:graphicData uri="http://schemas.openxmlformats.org/drawingml/2006/table">
            <a:tbl>
              <a:tblPr/>
              <a:tblGrid>
                <a:gridCol w="1513080"/>
                <a:gridCol w="1079280"/>
              </a:tblGrid>
              <a:tr h="792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оспрограмма, подпрограмма/ ФЦ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cxnSp>
        <p:nvCxnSpPr>
          <p:cNvPr id="286" name="Прямая со стрелкой 38"/>
          <p:cNvCxnSpPr/>
          <p:nvPr/>
        </p:nvCxnSpPr>
        <p:spPr>
          <a:xfrm>
            <a:off x="745128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Прямая со стрелкой 39"/>
          <p:cNvCxnSpPr/>
          <p:nvPr/>
        </p:nvCxnSpPr>
        <p:spPr>
          <a:xfrm>
            <a:off x="843408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88" name=""/>
          <p:cNvGraphicFramePr/>
          <p:nvPr/>
        </p:nvGraphicFramePr>
        <p:xfrm>
          <a:off x="5896080" y="4135320"/>
          <a:ext cx="1098360" cy="790560"/>
        </p:xfrm>
        <a:graphic>
          <a:graphicData uri="http://schemas.openxmlformats.org/drawingml/2006/table">
            <a:tbl>
              <a:tblPr/>
              <a:tblGrid>
                <a:gridCol w="1098360"/>
              </a:tblGrid>
              <a:tr h="790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cxnSp>
        <p:nvCxnSpPr>
          <p:cNvPr id="289" name="Прямая со стрелкой 42"/>
          <p:cNvCxnSpPr/>
          <p:nvPr/>
        </p:nvCxnSpPr>
        <p:spPr>
          <a:xfrm>
            <a:off x="5697000" y="186516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Прямая со стрелкой 43"/>
          <p:cNvCxnSpPr/>
          <p:nvPr/>
        </p:nvCxnSpPr>
        <p:spPr>
          <a:xfrm>
            <a:off x="3536640" y="3141360"/>
            <a:ext cx="1080" cy="2159640"/>
          </a:xfrm>
          <a:prstGeom prst="straightConnector1">
            <a:avLst/>
          </a:prstGeom>
          <a:ln w="223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91" name="Прямая со стрелкой 48"/>
          <p:cNvCxnSpPr/>
          <p:nvPr/>
        </p:nvCxnSpPr>
        <p:spPr>
          <a:xfrm>
            <a:off x="6400440" y="4932000"/>
            <a:ext cx="1080" cy="369000"/>
          </a:xfrm>
          <a:prstGeom prst="straightConnector1">
            <a:avLst/>
          </a:prstGeom>
          <a:ln w="2232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2" name="Соединительная линия уступом 56"/>
          <p:cNvCxnSpPr/>
          <p:nvPr/>
        </p:nvCxnSpPr>
        <p:spPr>
          <a:xfrm>
            <a:off x="5553000" y="2744280"/>
            <a:ext cx="829440" cy="9723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93" name="Заголовок 1"/>
          <p:cNvSpPr/>
          <p:nvPr/>
        </p:nvSpPr>
        <p:spPr>
          <a:xfrm>
            <a:off x="2494080" y="1955880"/>
            <a:ext cx="21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тическое распредел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5521320" y="3789360"/>
            <a:ext cx="1760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тическое распредел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5" name="Прямая со стрелкой 67"/>
          <p:cNvCxnSpPr/>
          <p:nvPr/>
        </p:nvCxnSpPr>
        <p:spPr>
          <a:xfrm>
            <a:off x="4544640" y="1844640"/>
            <a:ext cx="1080" cy="505440"/>
          </a:xfrm>
          <a:prstGeom prst="straightConnector1">
            <a:avLst/>
          </a:prstGeom>
          <a:ln w="2232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296" name="Правая фигурная скобка 1"/>
          <p:cNvSpPr/>
          <p:nvPr/>
        </p:nvSpPr>
        <p:spPr>
          <a:xfrm rot="5400000">
            <a:off x="4873320" y="4251240"/>
            <a:ext cx="228600" cy="4032360"/>
          </a:xfrm>
          <a:custGeom>
            <a:avLst/>
            <a:gdLst>
              <a:gd name="textAreaLeft" fmla="*/ 0 w 228600"/>
              <a:gd name="textAreaRight" fmla="*/ 82440 w 228600"/>
              <a:gd name="textAreaTop" fmla="*/ 44640 h 4032360"/>
              <a:gd name="textAreaBottom" fmla="*/ 3987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2"/>
                  <a:pt x="10800" y="764"/>
                </a:cubicBezTo>
                <a:lnTo>
                  <a:pt x="10800" y="9628"/>
                </a:lnTo>
                <a:cubicBezTo>
                  <a:pt x="10800" y="10010"/>
                  <a:pt x="16200" y="10392"/>
                  <a:pt x="21600" y="10392"/>
                </a:cubicBezTo>
                <a:cubicBezTo>
                  <a:pt x="16200" y="10392"/>
                  <a:pt x="10800" y="10774"/>
                  <a:pt x="10800" y="11156"/>
                </a:cubicBezTo>
                <a:lnTo>
                  <a:pt x="10800" y="20836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237200" y="6435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вая стат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716040" y="2997360"/>
          <a:ext cx="7711920" cy="3462120"/>
        </p:xfrm>
        <a:graphic>
          <a:graphicData uri="http://schemas.openxmlformats.org/drawingml/2006/table">
            <a:tbl>
              <a:tblPr/>
              <a:tblGrid>
                <a:gridCol w="736560"/>
                <a:gridCol w="350640"/>
                <a:gridCol w="289080"/>
                <a:gridCol w="358920"/>
                <a:gridCol w="360360"/>
                <a:gridCol w="1728720"/>
                <a:gridCol w="1609560"/>
                <a:gridCol w="1430280"/>
                <a:gridCol w="847800"/>
              </a:tblGrid>
              <a:tr h="460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 (мероприятие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18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1. Разрядность кода не изменяется (20 знаков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2. Структура кода вцелом не изменяется (3-2-2-7-3-3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3. Новая структура кода целевой статьи (2-1-4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5"/>
          <p:cNvSpPr/>
          <p:nvPr/>
        </p:nvSpPr>
        <p:spPr>
          <a:xfrm>
            <a:off x="620640" y="69228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Структура кода целевой статьи федерального бюджета, бюджета государственного внебюджетного фонда Российской Федерации на 2014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38280" y="2205000"/>
          <a:ext cx="7880400" cy="371520"/>
        </p:xfrm>
        <a:graphic>
          <a:graphicData uri="http://schemas.openxmlformats.org/drawingml/2006/table">
            <a:tbl>
              <a:tblPr/>
              <a:tblGrid>
                <a:gridCol w="2973240"/>
                <a:gridCol w="4907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ифровой код – 1,2, …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уквенно-цифровой код – 1,2,… 9, А, В, 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одержимое 9"/>
          <p:cNvSpPr/>
          <p:nvPr/>
        </p:nvSpPr>
        <p:spPr>
          <a:xfrm>
            <a:off x="0" y="1042920"/>
            <a:ext cx="8991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237960" y="411120"/>
            <a:ext cx="822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ходы к формированию перечня целевых статей расх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6012000" y="804960"/>
            <a:ext cx="0" cy="550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6097680" y="2205000"/>
            <a:ext cx="3082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Перечень выплат в составе ПН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Перечень публичных выплат в адрес физических ли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Перечень межбюджетных трансфер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Перечень бюджетных инвестиц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Мероприятия по реализации ФЦ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Оплата труда государственных гражданских служащих (денежное довольствие военнослужащих и приравненных к ним лиц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 Перечень взносов в уставные капиталы хозяйствующих су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Перечень субсидий юрлиц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 Иные адресно-целевые направления расход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Прямая со стрелкой 24" descr=""/>
          <p:cNvPicPr/>
          <p:nvPr/>
        </p:nvPicPr>
        <p:blipFill>
          <a:blip r:embed="rId1"/>
          <a:stretch/>
        </p:blipFill>
        <p:spPr>
          <a:xfrm>
            <a:off x="5261040" y="2189160"/>
            <a:ext cx="201600" cy="3187800"/>
          </a:xfrm>
          <a:prstGeom prst="rect">
            <a:avLst/>
          </a:prstGeom>
          <a:ln w="0">
            <a:noFill/>
          </a:ln>
        </p:spPr>
      </p:pic>
      <p:sp>
        <p:nvSpPr>
          <p:cNvPr id="306" name="Равнобедренный треугольник 19"/>
          <p:cNvSpPr/>
          <p:nvPr/>
        </p:nvSpPr>
        <p:spPr>
          <a:xfrm>
            <a:off x="6156360" y="69228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Номер слайда 8"/>
          <p:cNvSpPr/>
          <p:nvPr/>
        </p:nvSpPr>
        <p:spPr>
          <a:xfrm>
            <a:off x="7389720" y="0"/>
            <a:ext cx="148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3068-9B2C-4602-BC19-2000D9F710F5}" type="slidenum"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21"/>
          <p:cNvSpPr/>
          <p:nvPr/>
        </p:nvSpPr>
        <p:spPr>
          <a:xfrm>
            <a:off x="2843280" y="804960"/>
            <a:ext cx="0" cy="550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08000" y="2847960"/>
            <a:ext cx="259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учреждений (больницы, поликлиники, музеи, 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уктура государственных органов (ЦА, ТО, ГКУ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ы отдельных реализуемых функций и мероприят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ая детализация расходов для аналитического уч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Равнобедренный треугольник 33"/>
          <p:cNvSpPr/>
          <p:nvPr/>
        </p:nvSpPr>
        <p:spPr>
          <a:xfrm>
            <a:off x="1042920" y="7333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1"/>
          <p:cNvSpPr/>
          <p:nvPr/>
        </p:nvSpPr>
        <p:spPr>
          <a:xfrm>
            <a:off x="2843280" y="3684600"/>
            <a:ext cx="3168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Блок-схема: процесс 8"/>
          <p:cNvSpPr/>
          <p:nvPr/>
        </p:nvSpPr>
        <p:spPr>
          <a:xfrm>
            <a:off x="3132000" y="5292720"/>
            <a:ext cx="216072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Блок-схема: процесс 36"/>
          <p:cNvSpPr/>
          <p:nvPr/>
        </p:nvSpPr>
        <p:spPr>
          <a:xfrm>
            <a:off x="3348000" y="5445000"/>
            <a:ext cx="230364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Блок-схема: процесс 37"/>
          <p:cNvSpPr/>
          <p:nvPr/>
        </p:nvSpPr>
        <p:spPr>
          <a:xfrm>
            <a:off x="3567240" y="5586480"/>
            <a:ext cx="230004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ые стат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Блок-схема: процесс 38"/>
          <p:cNvSpPr/>
          <p:nvPr/>
        </p:nvSpPr>
        <p:spPr>
          <a:xfrm>
            <a:off x="3419640" y="1560600"/>
            <a:ext cx="2268360" cy="57312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Блок-схема: процесс 39"/>
          <p:cNvSpPr/>
          <p:nvPr/>
        </p:nvSpPr>
        <p:spPr>
          <a:xfrm>
            <a:off x="3243240" y="1371600"/>
            <a:ext cx="233676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Блок-схема: процесс 40"/>
          <p:cNvSpPr/>
          <p:nvPr/>
        </p:nvSpPr>
        <p:spPr>
          <a:xfrm>
            <a:off x="3059280" y="1128600"/>
            <a:ext cx="237960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ые стат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Прямая со стрелкой 41" descr=""/>
          <p:cNvPicPr/>
          <p:nvPr/>
        </p:nvPicPr>
        <p:blipFill>
          <a:blip r:embed="rId2"/>
          <a:stretch/>
        </p:blipFill>
        <p:spPr>
          <a:xfrm>
            <a:off x="4687920" y="2206800"/>
            <a:ext cx="201600" cy="31572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ая со стрелкой 42" descr=""/>
          <p:cNvPicPr/>
          <p:nvPr/>
        </p:nvPicPr>
        <p:blipFill>
          <a:blip r:embed="rId3"/>
          <a:stretch/>
        </p:blipFill>
        <p:spPr>
          <a:xfrm>
            <a:off x="4322880" y="2206800"/>
            <a:ext cx="199800" cy="315720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ая со стрелкой 43" descr=""/>
          <p:cNvPicPr/>
          <p:nvPr/>
        </p:nvPicPr>
        <p:blipFill>
          <a:blip r:embed="rId4"/>
          <a:stretch/>
        </p:blipFill>
        <p:spPr>
          <a:xfrm>
            <a:off x="3956040" y="2206800"/>
            <a:ext cx="201600" cy="315720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ая соединительная линия 46" descr=""/>
          <p:cNvPicPr/>
          <p:nvPr/>
        </p:nvPicPr>
        <p:blipFill>
          <a:blip r:embed="rId5"/>
          <a:stretch/>
        </p:blipFill>
        <p:spPr>
          <a:xfrm>
            <a:off x="402912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ая со стрелкой 48" descr=""/>
          <p:cNvPicPr/>
          <p:nvPr/>
        </p:nvPicPr>
        <p:blipFill>
          <a:blip r:embed="rId6"/>
          <a:stretch/>
        </p:blipFill>
        <p:spPr>
          <a:xfrm>
            <a:off x="3754440" y="3187800"/>
            <a:ext cx="330120" cy="10126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ая соединительная линия 57" descr=""/>
          <p:cNvPicPr/>
          <p:nvPr/>
        </p:nvPicPr>
        <p:blipFill>
          <a:blip r:embed="rId7"/>
          <a:stretch/>
        </p:blipFill>
        <p:spPr>
          <a:xfrm>
            <a:off x="374328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ая со стрелкой 58" descr=""/>
          <p:cNvPicPr/>
          <p:nvPr/>
        </p:nvPicPr>
        <p:blipFill>
          <a:blip r:embed="rId8"/>
          <a:stretch/>
        </p:blipFill>
        <p:spPr>
          <a:xfrm>
            <a:off x="3395520" y="3114720"/>
            <a:ext cx="401760" cy="115236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ая соединительная линия 65" descr=""/>
          <p:cNvPicPr/>
          <p:nvPr/>
        </p:nvPicPr>
        <p:blipFill>
          <a:blip r:embed="rId9"/>
          <a:stretch/>
        </p:blipFill>
        <p:spPr>
          <a:xfrm>
            <a:off x="340200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ая со стрелкой 66" descr=""/>
          <p:cNvPicPr/>
          <p:nvPr/>
        </p:nvPicPr>
        <p:blipFill>
          <a:blip r:embed="rId10"/>
          <a:stretch/>
        </p:blipFill>
        <p:spPr>
          <a:xfrm>
            <a:off x="2889360" y="3041640"/>
            <a:ext cx="560160" cy="129852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ая со стрелкой 72" descr=""/>
          <p:cNvPicPr/>
          <p:nvPr/>
        </p:nvPicPr>
        <p:blipFill>
          <a:blip r:embed="rId11"/>
          <a:stretch/>
        </p:blipFill>
        <p:spPr>
          <a:xfrm>
            <a:off x="4973760" y="2206800"/>
            <a:ext cx="201600" cy="31572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34920" y="1413000"/>
            <a:ext cx="277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авления расходов, требующие аналитического обособления при формировании обоснований бюджетных ассигнова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6060960" y="836640"/>
            <a:ext cx="3024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авления расходов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бующие в        соответствии с законодательством отражения по отдельным кодам бюджетной классификации в целях контроля за их планированием, санкционированием и исполнением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Прямая со стрелкой 84" descr=""/>
          <p:cNvPicPr/>
          <p:nvPr/>
        </p:nvPicPr>
        <p:blipFill>
          <a:blip r:embed="rId12"/>
          <a:stretch/>
        </p:blipFill>
        <p:spPr>
          <a:xfrm>
            <a:off x="5364000" y="4498920"/>
            <a:ext cx="201600" cy="16765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ая со стрелкой 85" descr=""/>
          <p:cNvPicPr/>
          <p:nvPr/>
        </p:nvPicPr>
        <p:blipFill>
          <a:blip r:embed="rId13"/>
          <a:stretch/>
        </p:blipFill>
        <p:spPr>
          <a:xfrm>
            <a:off x="4773600" y="4492800"/>
            <a:ext cx="200160" cy="169524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86" descr=""/>
          <p:cNvPicPr/>
          <p:nvPr/>
        </p:nvPicPr>
        <p:blipFill>
          <a:blip r:embed="rId14"/>
          <a:stretch/>
        </p:blipFill>
        <p:spPr>
          <a:xfrm>
            <a:off x="4413240" y="4498920"/>
            <a:ext cx="201600" cy="16765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ая со стрелкой 87" descr=""/>
          <p:cNvPicPr/>
          <p:nvPr/>
        </p:nvPicPr>
        <p:blipFill>
          <a:blip r:embed="rId15"/>
          <a:stretch/>
        </p:blipFill>
        <p:spPr>
          <a:xfrm>
            <a:off x="4054320" y="4492800"/>
            <a:ext cx="200160" cy="167616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 стрелкой 88" descr=""/>
          <p:cNvPicPr/>
          <p:nvPr/>
        </p:nvPicPr>
        <p:blipFill>
          <a:blip r:embed="rId16"/>
          <a:stretch/>
        </p:blipFill>
        <p:spPr>
          <a:xfrm>
            <a:off x="5065560" y="4498920"/>
            <a:ext cx="201600" cy="1676520"/>
          </a:xfrm>
          <a:prstGeom prst="rect">
            <a:avLst/>
          </a:prstGeom>
          <a:ln w="0">
            <a:noFill/>
          </a:ln>
        </p:spPr>
      </p:pic>
      <p:sp>
        <p:nvSpPr>
          <p:cNvPr id="335" name="Овал 11284"/>
          <p:cNvSpPr/>
          <p:nvPr/>
        </p:nvSpPr>
        <p:spPr>
          <a:xfrm>
            <a:off x="4308480" y="4221000"/>
            <a:ext cx="21420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Овал 97"/>
          <p:cNvSpPr/>
          <p:nvPr/>
        </p:nvSpPr>
        <p:spPr>
          <a:xfrm>
            <a:off x="467352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Овал 98"/>
          <p:cNvSpPr/>
          <p:nvPr/>
        </p:nvSpPr>
        <p:spPr>
          <a:xfrm>
            <a:off x="502596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Овал 99"/>
          <p:cNvSpPr/>
          <p:nvPr/>
        </p:nvSpPr>
        <p:spPr>
          <a:xfrm>
            <a:off x="532620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Овал 100"/>
          <p:cNvSpPr/>
          <p:nvPr/>
        </p:nvSpPr>
        <p:spPr>
          <a:xfrm>
            <a:off x="562752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Прямая соединительная линия 11286" descr=""/>
          <p:cNvPicPr/>
          <p:nvPr/>
        </p:nvPicPr>
        <p:blipFill>
          <a:blip r:embed="rId17"/>
          <a:stretch/>
        </p:blipFill>
        <p:spPr>
          <a:xfrm>
            <a:off x="4395960" y="3790800"/>
            <a:ext cx="29880" cy="7621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103" descr=""/>
          <p:cNvPicPr/>
          <p:nvPr/>
        </p:nvPicPr>
        <p:blipFill>
          <a:blip r:embed="rId18"/>
          <a:stretch/>
        </p:blipFill>
        <p:spPr>
          <a:xfrm>
            <a:off x="4748040" y="3790800"/>
            <a:ext cx="32040" cy="7621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104" descr=""/>
          <p:cNvPicPr/>
          <p:nvPr/>
        </p:nvPicPr>
        <p:blipFill>
          <a:blip r:embed="rId19"/>
          <a:stretch/>
        </p:blipFill>
        <p:spPr>
          <a:xfrm>
            <a:off x="5114880" y="3790800"/>
            <a:ext cx="30240" cy="762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единительная линия 105" descr=""/>
          <p:cNvPicPr/>
          <p:nvPr/>
        </p:nvPicPr>
        <p:blipFill>
          <a:blip r:embed="rId20"/>
          <a:stretch/>
        </p:blipFill>
        <p:spPr>
          <a:xfrm>
            <a:off x="5394240" y="3773520"/>
            <a:ext cx="31680" cy="7621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единительная линия 106" descr=""/>
          <p:cNvPicPr/>
          <p:nvPr/>
        </p:nvPicPr>
        <p:blipFill>
          <a:blip r:embed="rId21"/>
          <a:stretch/>
        </p:blipFill>
        <p:spPr>
          <a:xfrm>
            <a:off x="5699160" y="3773520"/>
            <a:ext cx="31680" cy="76212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узел 1"/>
          <p:cNvSpPr/>
          <p:nvPr/>
        </p:nvSpPr>
        <p:spPr>
          <a:xfrm>
            <a:off x="6126120" y="32558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Блок-схема: узел 47"/>
          <p:cNvSpPr/>
          <p:nvPr/>
        </p:nvSpPr>
        <p:spPr>
          <a:xfrm>
            <a:off x="6130800" y="27082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Блок-схема: узел 49"/>
          <p:cNvSpPr/>
          <p:nvPr/>
        </p:nvSpPr>
        <p:spPr>
          <a:xfrm>
            <a:off x="6122880" y="23716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Блок-схема: узел 50"/>
          <p:cNvSpPr/>
          <p:nvPr/>
        </p:nvSpPr>
        <p:spPr>
          <a:xfrm>
            <a:off x="6126120" y="381312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Блок-схема: узел 51"/>
          <p:cNvSpPr/>
          <p:nvPr/>
        </p:nvSpPr>
        <p:spPr>
          <a:xfrm>
            <a:off x="6130800" y="41306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Блок-схема: узел 52"/>
          <p:cNvSpPr/>
          <p:nvPr/>
        </p:nvSpPr>
        <p:spPr>
          <a:xfrm>
            <a:off x="6130800" y="44830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Блок-схема: узел 53"/>
          <p:cNvSpPr/>
          <p:nvPr/>
        </p:nvSpPr>
        <p:spPr>
          <a:xfrm>
            <a:off x="6126120" y="544500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Блок-схема: узел 54"/>
          <p:cNvSpPr/>
          <p:nvPr/>
        </p:nvSpPr>
        <p:spPr>
          <a:xfrm>
            <a:off x="6130800" y="60008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Блок-схема: узел 55"/>
          <p:cNvSpPr/>
          <p:nvPr/>
        </p:nvSpPr>
        <p:spPr>
          <a:xfrm>
            <a:off x="6126120" y="63356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258920" y="1916280"/>
          <a:ext cx="7711920" cy="4919400"/>
        </p:xfrm>
        <a:graphic>
          <a:graphicData uri="http://schemas.openxmlformats.org/drawingml/2006/table">
            <a:tbl>
              <a:tblPr/>
              <a:tblGrid>
                <a:gridCol w="736560"/>
                <a:gridCol w="316080"/>
                <a:gridCol w="34920"/>
                <a:gridCol w="288720"/>
                <a:gridCol w="358920"/>
                <a:gridCol w="360360"/>
                <a:gridCol w="1728720"/>
                <a:gridCol w="604800"/>
                <a:gridCol w="871560"/>
                <a:gridCol w="133200"/>
                <a:gridCol w="1430640"/>
                <a:gridCol w="847440"/>
              </a:tblGrid>
              <a:tr h="453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 (мероприятие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ХХ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5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355" name="TextBox 3" descr=""/>
          <p:cNvPicPr/>
          <p:nvPr/>
        </p:nvPicPr>
        <p:blipFill>
          <a:blip r:embed="rId1"/>
          <a:stretch/>
        </p:blipFill>
        <p:spPr>
          <a:xfrm>
            <a:off x="171360" y="1695600"/>
            <a:ext cx="1028880" cy="197460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4" descr=""/>
          <p:cNvPicPr/>
          <p:nvPr/>
        </p:nvPicPr>
        <p:blipFill>
          <a:blip r:embed="rId2"/>
          <a:stretch/>
        </p:blipFill>
        <p:spPr>
          <a:xfrm>
            <a:off x="103320" y="4863960"/>
            <a:ext cx="1274760" cy="20005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620640" y="692280"/>
            <a:ext cx="81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од классификации расходов бюджетов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32000" y="1341360"/>
          <a:ext cx="7632720" cy="371520"/>
        </p:xfrm>
        <a:graphic>
          <a:graphicData uri="http://schemas.openxmlformats.org/drawingml/2006/table">
            <a:tbl>
              <a:tblPr/>
              <a:tblGrid>
                <a:gridCol w="2879640"/>
                <a:gridCol w="475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ифровой код – 1,2, …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уквенно-цифровой код – 1,2,… 9, А, В, 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359" name="Прямая со стрелкой 11"/>
          <p:cNvCxnSpPr/>
          <p:nvPr/>
        </p:nvCxnSpPr>
        <p:spPr>
          <a:xfrm flipH="1">
            <a:off x="6516360" y="3429000"/>
            <a:ext cx="720000" cy="2953440"/>
          </a:xfrm>
          <a:prstGeom prst="straightConnector1">
            <a:avLst/>
          </a:prstGeom>
          <a:ln w="127080">
            <a:solidFill>
              <a:srgbClr val="ff0000">
                <a:alpha val="62000"/>
              </a:srgbClr>
            </a:solidFill>
            <a:miter/>
            <a:tailEnd len="med" type="triangle" w="med"/>
          </a:ln>
        </p:spPr>
      </p:cxnSp>
      <p:sp>
        <p:nvSpPr>
          <p:cNvPr id="360" name="TextBox 21"/>
          <p:cNvSpPr/>
          <p:nvPr/>
        </p:nvSpPr>
        <p:spPr>
          <a:xfrm>
            <a:off x="6081840" y="3645000"/>
            <a:ext cx="2016000" cy="916920"/>
          </a:xfrm>
          <a:prstGeom prst="rect">
            <a:avLst/>
          </a:prstGeom>
          <a:solidFill>
            <a:srgbClr val="ff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 500 «Межбюджетные трансферт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Прямая соединительная линия 23"/>
          <p:cNvSpPr/>
          <p:nvPr/>
        </p:nvSpPr>
        <p:spPr>
          <a:xfrm>
            <a:off x="3348000" y="1898640"/>
            <a:ext cx="0" cy="4897440"/>
          </a:xfrm>
          <a:prstGeom prst="line">
            <a:avLst/>
          </a:prstGeom>
          <a:ln w="60480">
            <a:solidFill>
              <a:srgbClr val="3333cc">
                <a:alpha val="6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Прямая соединительная линия 26"/>
          <p:cNvSpPr/>
          <p:nvPr/>
        </p:nvSpPr>
        <p:spPr>
          <a:xfrm>
            <a:off x="8097840" y="1898640"/>
            <a:ext cx="0" cy="4897440"/>
          </a:xfrm>
          <a:prstGeom prst="line">
            <a:avLst/>
          </a:prstGeom>
          <a:ln w="60480">
            <a:solidFill>
              <a:srgbClr val="3333cc">
                <a:alpha val="6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3440" y="703080"/>
            <a:ext cx="8971200" cy="564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664d"/>
                </a:solidFill>
                <a:latin typeface="Times New Roman"/>
              </a:rPr>
              <a:t>Интернет сайт Минфина России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182520" y="1197000"/>
            <a:ext cx="8964720" cy="5472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ая соединительная линия 3"/>
          <p:cNvSpPr/>
          <p:nvPr/>
        </p:nvSpPr>
        <p:spPr>
          <a:xfrm>
            <a:off x="1763640" y="4508640"/>
            <a:ext cx="7056360" cy="0"/>
          </a:xfrm>
          <a:prstGeom prst="line">
            <a:avLst/>
          </a:prstGeom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85816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казаний № 171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рименение классификации видов расходов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8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Oval 1"/>
          <p:cNvSpPr/>
          <p:nvPr/>
        </p:nvSpPr>
        <p:spPr>
          <a:xfrm>
            <a:off x="817236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2"/>
          <p:cNvSpPr/>
          <p:nvPr/>
        </p:nvSpPr>
        <p:spPr>
          <a:xfrm>
            <a:off x="521964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248436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46160" y="731880"/>
            <a:ext cx="899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14185"/>
                </a:solidFill>
                <a:latin typeface="Times New Roman"/>
              </a:rPr>
              <a:t>Классификационный принцип вида расход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179280" y="1844640"/>
            <a:ext cx="8807040" cy="499680"/>
            <a:chOff x="179280" y="1844640"/>
            <a:chExt cx="8807040" cy="499680"/>
          </a:xfrm>
        </p:grpSpPr>
        <p:sp>
          <p:nvSpPr>
            <p:cNvPr id="376" name="Rectangle 7"/>
            <p:cNvSpPr/>
            <p:nvPr/>
          </p:nvSpPr>
          <p:spPr>
            <a:xfrm>
              <a:off x="179280" y="1844640"/>
              <a:ext cx="29361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групп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3114000" y="1844640"/>
              <a:ext cx="2934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подгрупп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6048360" y="1844640"/>
              <a:ext cx="29361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элеме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3114000" y="1844640"/>
              <a:ext cx="108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6048360" y="1844640"/>
              <a:ext cx="144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179280" y="1844640"/>
              <a:ext cx="14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8984880" y="1844640"/>
              <a:ext cx="14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179280" y="1844640"/>
              <a:ext cx="880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179280" y="2342880"/>
              <a:ext cx="880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Text Box 16"/>
          <p:cNvSpPr/>
          <p:nvPr/>
        </p:nvSpPr>
        <p:spPr>
          <a:xfrm>
            <a:off x="3902400" y="1341360"/>
            <a:ext cx="99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</a:rPr>
              <a:t>Х Х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1187280" y="3645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1187280" y="5589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4500720" y="33559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4716360" y="3645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4932360" y="393228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2"/>
          <p:cNvSpPr/>
          <p:nvPr/>
        </p:nvSpPr>
        <p:spPr>
          <a:xfrm>
            <a:off x="7667640" y="31417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7738920" y="321300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7812000" y="3357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7669080" y="3933720"/>
            <a:ext cx="914400" cy="505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7740720" y="4005360"/>
            <a:ext cx="91440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7812000" y="4149720"/>
            <a:ext cx="91440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7667640" y="49417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9"/>
          <p:cNvSpPr/>
          <p:nvPr/>
        </p:nvSpPr>
        <p:spPr>
          <a:xfrm>
            <a:off x="7740720" y="501480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30"/>
          <p:cNvSpPr/>
          <p:nvPr/>
        </p:nvSpPr>
        <p:spPr>
          <a:xfrm>
            <a:off x="7812000" y="515772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31"/>
          <p:cNvSpPr/>
          <p:nvPr/>
        </p:nvSpPr>
        <p:spPr>
          <a:xfrm>
            <a:off x="7740720" y="60199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2"/>
          <p:cNvSpPr/>
          <p:nvPr/>
        </p:nvSpPr>
        <p:spPr>
          <a:xfrm>
            <a:off x="7813800" y="6093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3"/>
          <p:cNvSpPr/>
          <p:nvPr/>
        </p:nvSpPr>
        <p:spPr>
          <a:xfrm>
            <a:off x="7885080" y="623736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4"/>
          <p:cNvGrpSpPr/>
          <p:nvPr/>
        </p:nvGrpSpPr>
        <p:grpSpPr>
          <a:xfrm>
            <a:off x="179280" y="2565360"/>
            <a:ext cx="8783280" cy="501480"/>
            <a:chOff x="179280" y="2565360"/>
            <a:chExt cx="8783280" cy="501480"/>
          </a:xfrm>
        </p:grpSpPr>
        <p:sp>
          <p:nvSpPr>
            <p:cNvPr id="404" name="Rectangle 35"/>
            <p:cNvSpPr/>
            <p:nvPr/>
          </p:nvSpPr>
          <p:spPr>
            <a:xfrm>
              <a:off x="179280" y="2565360"/>
              <a:ext cx="2952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коды от 1 до 9 - 9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36"/>
            <p:cNvSpPr/>
            <p:nvPr/>
          </p:nvSpPr>
          <p:spPr>
            <a:xfrm>
              <a:off x="3129840" y="2565360"/>
              <a:ext cx="2878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т 1 до 9 х 9 - 8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6008760" y="2565360"/>
              <a:ext cx="2952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т 1 до 9 х 81 - 729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38"/>
            <p:cNvSpPr/>
            <p:nvPr/>
          </p:nvSpPr>
          <p:spPr>
            <a:xfrm>
              <a:off x="3129840" y="2565360"/>
              <a:ext cx="1080" cy="5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39"/>
            <p:cNvSpPr/>
            <p:nvPr/>
          </p:nvSpPr>
          <p:spPr>
            <a:xfrm>
              <a:off x="6008760" y="2565360"/>
              <a:ext cx="1440" cy="5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40"/>
            <p:cNvSpPr/>
            <p:nvPr/>
          </p:nvSpPr>
          <p:spPr>
            <a:xfrm>
              <a:off x="179280" y="2565360"/>
              <a:ext cx="144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8961120" y="2565360"/>
              <a:ext cx="144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179280" y="2565360"/>
              <a:ext cx="878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>
              <a:off x="179280" y="3065760"/>
              <a:ext cx="878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44"/>
          <p:cNvSpPr/>
          <p:nvPr/>
        </p:nvSpPr>
        <p:spPr>
          <a:xfrm>
            <a:off x="3924360" y="350028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45"/>
          <p:cNvSpPr/>
          <p:nvPr/>
        </p:nvSpPr>
        <p:spPr>
          <a:xfrm>
            <a:off x="3924360" y="350028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46"/>
          <p:cNvSpPr/>
          <p:nvPr/>
        </p:nvSpPr>
        <p:spPr>
          <a:xfrm>
            <a:off x="2124000" y="386064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47"/>
          <p:cNvSpPr/>
          <p:nvPr/>
        </p:nvSpPr>
        <p:spPr>
          <a:xfrm>
            <a:off x="4427640" y="4221000"/>
            <a:ext cx="50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8"/>
          <p:cNvSpPr/>
          <p:nvPr/>
        </p:nvSpPr>
        <p:spPr>
          <a:xfrm>
            <a:off x="4500720" y="530064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9"/>
          <p:cNvSpPr/>
          <p:nvPr/>
        </p:nvSpPr>
        <p:spPr>
          <a:xfrm>
            <a:off x="4716360" y="5589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50"/>
          <p:cNvSpPr/>
          <p:nvPr/>
        </p:nvSpPr>
        <p:spPr>
          <a:xfrm>
            <a:off x="4932360" y="5877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1"/>
          <p:cNvSpPr/>
          <p:nvPr/>
        </p:nvSpPr>
        <p:spPr>
          <a:xfrm>
            <a:off x="3924360" y="5445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52"/>
          <p:cNvSpPr/>
          <p:nvPr/>
        </p:nvSpPr>
        <p:spPr>
          <a:xfrm>
            <a:off x="3924360" y="544500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53"/>
          <p:cNvSpPr/>
          <p:nvPr/>
        </p:nvSpPr>
        <p:spPr>
          <a:xfrm>
            <a:off x="2124000" y="58053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54"/>
          <p:cNvSpPr/>
          <p:nvPr/>
        </p:nvSpPr>
        <p:spPr>
          <a:xfrm>
            <a:off x="4427640" y="6165720"/>
            <a:ext cx="50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55"/>
          <p:cNvSpPr/>
          <p:nvPr/>
        </p:nvSpPr>
        <p:spPr>
          <a:xfrm>
            <a:off x="7451640" y="3357720"/>
            <a:ext cx="289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56"/>
          <p:cNvSpPr/>
          <p:nvPr/>
        </p:nvSpPr>
        <p:spPr>
          <a:xfrm>
            <a:off x="5435640" y="3573360"/>
            <a:ext cx="216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7524720" y="393372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58"/>
          <p:cNvSpPr/>
          <p:nvPr/>
        </p:nvSpPr>
        <p:spPr>
          <a:xfrm>
            <a:off x="5651640" y="3860640"/>
            <a:ext cx="18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59"/>
          <p:cNvSpPr/>
          <p:nvPr/>
        </p:nvSpPr>
        <p:spPr>
          <a:xfrm>
            <a:off x="7524720" y="494172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60"/>
          <p:cNvSpPr/>
          <p:nvPr/>
        </p:nvSpPr>
        <p:spPr>
          <a:xfrm>
            <a:off x="5867280" y="4149720"/>
            <a:ext cx="1657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61"/>
          <p:cNvSpPr/>
          <p:nvPr/>
        </p:nvSpPr>
        <p:spPr>
          <a:xfrm>
            <a:off x="7596360" y="616572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62"/>
          <p:cNvSpPr/>
          <p:nvPr/>
        </p:nvSpPr>
        <p:spPr>
          <a:xfrm>
            <a:off x="5867280" y="616572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250920" y="69228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Виды бюджетных ассигнований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50920" y="1397160"/>
            <a:ext cx="8567280" cy="5198400"/>
            <a:chOff x="250920" y="1397160"/>
            <a:chExt cx="8567280" cy="5198400"/>
          </a:xfrm>
        </p:grpSpPr>
        <p:sp>
          <p:nvSpPr>
            <p:cNvPr id="435" name="Rectangle 4"/>
            <p:cNvSpPr/>
            <p:nvPr/>
          </p:nvSpPr>
          <p:spPr>
            <a:xfrm>
              <a:off x="250920" y="1397160"/>
              <a:ext cx="8566200" cy="57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Бюджетный кодекс РФ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(статья 69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250920" y="1976040"/>
              <a:ext cx="856620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) оказание государственных (муниципальных) услуг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2) социальное обеспечение населения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3) бюджетные инвестиции юридическим лицам, не являющимся государственными (муниципальными) бюджетными и (или) казенными учреждениями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4) предоставление субсидий юридическим лицам, индивидуальным предпринимателям, физическим лицам - производителям товаров, работ, услуг (за исключением субсидий государственным (муниципальным) учреждениям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5) предоставление межбюджетных трансфертов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6) перечисления субъектам международного права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7) обслуживание государственного (муниципального) долга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8) исполнение судебных актов о возмещении вреда, причиненного гражданину или юридическому лицу в результате незаконных действий (бездействия) органов государственной власти (государственных органов), органов местного самоуправления либо должностных лиц этих органов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250920" y="1976040"/>
              <a:ext cx="856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250920" y="1397160"/>
              <a:ext cx="1080" cy="51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>
              <a:off x="8817120" y="1397160"/>
              <a:ext cx="1080" cy="51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9"/>
            <p:cNvSpPr/>
            <p:nvPr/>
          </p:nvSpPr>
          <p:spPr>
            <a:xfrm>
              <a:off x="250920" y="1397160"/>
              <a:ext cx="8566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250920" y="6594120"/>
              <a:ext cx="8566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2800" y="549360"/>
            <a:ext cx="897084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ы видов расходов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асходы на выплаты персоналу в целях обеспечения выполнения функций государственными органами, казенными учреждениями, органами управления государственными внебюджетными фонд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 и услуг для государственных нуж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циальное обеспечение и иные выплаты населен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юджетные инвести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ежбюджетные трансфер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редоставление субсидий федеральным бюджетным, автономным учреждениям и иным некоммерческим организац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бслуживание государственного долга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ные бюджетные ассигн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руппа 100 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Расходы на выплаты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ерсоналу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в целях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обеспечения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выполнения функций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2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10 Расходы на выплаты персоналу казен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20 Расходы на выплаты персоналу государственных орган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1 - 121 Фонд оплаты труда и страховые взно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2 – 122 Иные выплаты персоналу, за исключением фонда оплаты тру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25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25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Arial"/>
              </a:rPr>
              <a:t>Статья 18 Бюджетного Кодекса Российской Федерации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ая классификация Российской Федерации я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группировк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доходов, расходов и источников финансирования дефицитов бюджетов бюджетной системы Российской Федерации, используемой для составления и исполнения бюджетов, составления бюджетной отчетности, обеспечивающей сопоставимость показателей бюджетов бюджетной системы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Командировочные расходы</a:t>
            </a: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(статья 168 Трудового кодекса Российской Федерации)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направления в служебную командировку работодатель обязан возмещать работни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по проез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по найму жилого помещ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расходы, связанные с проживанием вне места постоянного жительства (суточные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Группа 200</a:t>
            </a:r>
            <a:br>
              <a:rPr sz="2200"/>
            </a:b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 "Закупка товаров, работ и услуг для государственных нужд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азработка, закупка и ремонт вооружений, военной и специальной техники, продукции производственно-технического назначения и имуще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 и услуг для обеспечения специальным топливом и горюче-смазочными материалами, продовольственного и вещевого обеспечения органов в сфере национальной безопасности, правоохранительной деятельности и об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3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, услуг в целях формирования государственного материального резер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ные закупки товаров, работ и услуг для государственных нуж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Подгруппа </a:t>
            </a:r>
            <a:r>
              <a:rPr b="1" lang="ru-RU" sz="2200" spc="-1" strike="noStrike">
                <a:solidFill>
                  <a:srgbClr val="514185"/>
                </a:solidFill>
                <a:latin typeface="Times New Roman"/>
              </a:rPr>
              <a:t>240</a:t>
            </a: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"Иные закупки товаров, работ и услуг для государственных нужд 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78868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1 Научно-исследовательские и опытно-конструкторские работ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2 Закупка товаров, работ, услуг в сфере информационно-коммуникационных технолог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3 Закупка товаров, работ, услуг в целях капитального ремонта государственного имущест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4 Прочая закупка товаров, работ и услуг для государственных нуж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Элемент 242 "Закупка товаров, работ, услуг в сфере информационно-коммуникационных технологий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ектирование прикладных систем и ИКТ-инфраструктур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обретение прав на программное обеспечение, разработка (доработка) программного обеспеч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обретение оборудования (в том числе с предустановленным программным обеспечением), включая расходы на монтажные работы и пуско-наладочные работы по указанному оборудованию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подключение (обеспечение доступа) к внешним информационным ресурсам и сетям связи, коммуникационным сетям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эксплуатационные расходы (в том числе обеспечение функционирования и поддержка работоспособности прикладного и системного программного обеспечения, техническое обслуживание аппаратного обеспечения, включающее контроль технического состояния, закупка комплектующих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плату арендной платы в соответствии с заключенными договорами аренды (субаренды, имущественного найма, проката) ИКТ-оборудования (автоматизированных рабочих мест, коммуникационного, серверного, периферийного оборудования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ругие аналогичные расходы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5800" y="620640"/>
            <a:ext cx="89708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руппа 300 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Социальное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беспечение и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иные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выплаты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населению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9840" y="2060640"/>
            <a:ext cx="8788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выплаты, относящиеся к публич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ным обязательствам (311, 312, 313, 3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Иные (несоциальные) выплаты, относящиеся 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чным нормативным обязательствам (3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выплаты, не относя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публичным нормативным обязательств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21,322,3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ые (несоциальные) выплаты не относя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публичным нормативным обязательств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40, 3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7524720" y="4076640"/>
            <a:ext cx="287280" cy="2232000"/>
          </a:xfrm>
          <a:custGeom>
            <a:avLst/>
            <a:gdLst>
              <a:gd name="textAreaLeft" fmla="*/ 0 w 287280"/>
              <a:gd name="textAreaRight" fmla="*/ 103680 w 287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596360" y="4149720"/>
            <a:ext cx="165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бличные обязатель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публич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язатель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 400 "Бюджетные инвестиции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10 "Бюджетные инвестиции в объекты государственной собственности федеральным государственным учреждениям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0 " Бюджетные инвестиции в объекты государственной собственности государственным унитарным предприятиям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40 "Бюджетные инвестиции на приобретение объектов недвижимого имущества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становление Правительства Российской Федерации                           от 31 декабря 2012 года № 1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О порядке осуществления в 2013 году бюджетных инвестиций в объекты капитального строительства государственной собственности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16165d"/>
                </a:solidFill>
                <a:latin typeface="Times New Roman"/>
              </a:rPr>
              <a:t>Письмо Минфин России от 21 июля 2012 года № 02-11-05/29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 500 "Межбюджетные трансферты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840" y="1196640"/>
            <a:ext cx="87886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10 До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0 Субси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1 Субсидии, за исключением субсидий на софинансирование объектов капитального строительства государственной собственности и муниципальной собств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2 Субсидии на софинансирование объектов капитального строительства государственной (муниципальной) собств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30 Субве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40 Иные межбюджетные трансфер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50 Межбюджетные трансферты бюджету Фонда социального страхования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60 Межбюджетные трансферты бюджету Федерального фонда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70 Межбюджетные трансферты бюджету Пенсионного фонд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80 Межбюджетные трансферты бюджетам территориальных фондов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Группа 600 "Предоставление субсидий федеральным бюджетным, автономным учреждениям и иным некоммерческим организациям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8868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0 Субсидии бюджетным учрежде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1 Субсидии бюджетным учреждениям на финансовое обеспечение государственного задания на оказание государственных услуг (выполнение рабо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2 Субсидии бюджетным учреждениям на иные ц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0 Субсидии автономным учрежде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1 Субсидии автономным учреждениям на финансовое обеспечение государственного задания на оказание государственных услуг (выполнение рабо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2 Субсидии автономным учреждениям на иные ц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30 Субсидии некоммерческим организациям (за исключением государственных учреждени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800 "Иные бюджетные ассигнования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10 Субсидии юридическим лицам (кроме государственных учреждений) и физическим лицам - производителям товаров, работ,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20 Субсидии государственным корпорациям (компания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30 Исполнение судеб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40 Исполнение государственных гарантий без права регрессного требования гаранта к принципалу или уступки гаранту прав требования бенефициара к принципа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50 Уплата налогов, сборов и иных платеж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60 Предоставление платежей, взносов, безвозмездных перечислений субъектам международного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70 Резервны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80 Специ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830 "Исполнение судебных актов"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лата пеней и штрафов по государственным контрактам на поставку товаров, выполнение работ, оказание услуг для государственных нужд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ыплата компенсаций за задержку выплат в пользу физических лиц (включая выплаты работникам учреждений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мещение морального вред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мещение судебных издержек (государственной пошлины и иных издержек, связанных с рассмотрением дел в судах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полнение судебных актов, предусматривающих обязательство Российской Федерации по выплате пенсий, пособий, оплату труда работников учреждений, а также на оплату кредиторской задолженности по договорам на поставку товаров, выполнение работ, оказание услуг для государственных нужд и т.п., подлежат отражению по соответствующим группам, подгруппам и элементам классификации видов расход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108000" y="6632640"/>
            <a:ext cx="55515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99172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22228b"/>
                </a:solidFill>
                <a:latin typeface="Times New Roman"/>
              </a:rPr>
              <a:t>Бюджетная классификация Российской Федерации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500" spc="-1" strike="noStrike">
              <a:solidFill>
                <a:srgbClr val="808080"/>
              </a:solidFill>
              <a:latin typeface="Arial Unicode MS"/>
            </a:endParaRPr>
          </a:p>
        </p:txBody>
      </p:sp>
      <p:sp>
        <p:nvSpPr>
          <p:cNvPr id="251" name="AutoShape 7"/>
          <p:cNvSpPr/>
          <p:nvPr/>
        </p:nvSpPr>
        <p:spPr>
          <a:xfrm rot="5400000">
            <a:off x="81900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15800" y="2879640"/>
          <a:ext cx="8728200" cy="1224000"/>
        </p:xfrm>
        <a:graphic>
          <a:graphicData uri="http://schemas.openxmlformats.org/drawingml/2006/table">
            <a:tbl>
              <a:tblPr/>
              <a:tblGrid>
                <a:gridCol w="2041560"/>
                <a:gridCol w="2146320"/>
                <a:gridCol w="2175120"/>
                <a:gridCol w="236520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ДОХОДОВ БЮДЖЕ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РАСХОДОВ БЮДЖЕТ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ИСТОЧНИКОВ ФИНАНСИРОВАНИЯ ДЕФИЦИТОВ БЮДЖЕ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ОПЕРАЦИЙ ПУБЛИЧНО-ПРАВОВЫХ ОБРАЗОВАНИЙ (КЛАССИФИКАЦИЯ ОПЕРАЦИЙ СЕКТОРА ГОСУДАРСТВЕННОГО УПРАВЛЕНИЯ КОСГУ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AutoShape 51"/>
          <p:cNvSpPr/>
          <p:nvPr/>
        </p:nvSpPr>
        <p:spPr>
          <a:xfrm rot="5400000">
            <a:off x="305892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52"/>
          <p:cNvSpPr/>
          <p:nvPr/>
        </p:nvSpPr>
        <p:spPr>
          <a:xfrm rot="5400000">
            <a:off x="520524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3"/>
          <p:cNvSpPr/>
          <p:nvPr/>
        </p:nvSpPr>
        <p:spPr>
          <a:xfrm rot="5400000">
            <a:off x="7416360" y="2224080"/>
            <a:ext cx="863640" cy="39348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480"/>
              <a:gd name="textAreaBottom" fmla="*/ 295200 h 393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24000" y="2736720"/>
          <a:ext cx="8727840" cy="4121280"/>
        </p:xfrm>
        <a:graphic>
          <a:graphicData uri="http://schemas.openxmlformats.org/drawingml/2006/table">
            <a:tbl>
              <a:tblPr/>
              <a:tblGrid>
                <a:gridCol w="4187520"/>
                <a:gridCol w="4540320"/>
              </a:tblGrid>
              <a:tr h="412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____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«Единые» для бюджетов бюджетной системы Российской Федера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азделы, подразделы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КОСГ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БК 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Указания № 171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_____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«Уникальные» для каждого бюджета бюджетной системы Российской Федер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Целевые статьи, виды расход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кон о бюджете (СБР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казания № 171н, региональные (муниципальные) Н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731520"/>
            <a:ext cx="9117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 850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Уплата налогов, сборов и иных платежей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9280" y="1487520"/>
            <a:ext cx="87696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1 Уплата налога на имущество организаций и земельного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2 Уплата прочих налогов, сборов и иных плате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ранспортный налог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ата за загрязнение окружающей сред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осударственные пошлины и сбор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штрафов, пеней (в том числе за несвоевременную уплату налогов и сборов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гашение задолженности по налогам, сборам и иным обязательным платежам (в том числе организацией-правопреемником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ные налоги, сборы и обязательные платежи, а также платежи в форме паевых, членских и иных взносов (за исключением взносов в международные организации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860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"Предоставление платежей, взносов, безвозмездных перечислений субъектам международного права"</a:t>
            </a: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1 Безвозмездные перечисления субъектам международного 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2 Взносы в международные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3 Платежи в целях обеспечения реализации соглашений с правительствами иностранных государств и международными организа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омер слайда 2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E6EC22-53FB-411B-9683-C1AA6A5FB1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Номер слайда 2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6926A8-CCF6-48BF-9C07-4598643A175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60280" y="573120"/>
          <a:ext cx="8775720" cy="6099120"/>
        </p:xfrm>
        <a:graphic>
          <a:graphicData uri="http://schemas.openxmlformats.org/drawingml/2006/table">
            <a:tbl>
              <a:tblPr/>
              <a:tblGrid>
                <a:gridCol w="276120"/>
                <a:gridCol w="336600"/>
                <a:gridCol w="3738600"/>
                <a:gridCol w="536760"/>
                <a:gridCol w="3887640"/>
              </a:tblGrid>
              <a:tr h="158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grid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расходо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Г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1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2628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на выплаты персоналу в целях обеспечения выполнения функций государственными органами, казенными учреждениями, органами управления государственными внебюджетными фонд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обия по социальной помощи насел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упка товаров, работ и услуг для государственных нуж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и иные выплаты насел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убличные нормативные выплаты гражданам несоциального характера, стипендии, премии и грант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инвести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бюджета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субсидий федеральным бюджетным, автономным учреждениям и иным некоммерческим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государственного долга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бюджетные ассигнова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исления международным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ьные расход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000" y="368280"/>
            <a:ext cx="8867880" cy="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680" bIns="1368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я кодов видов расходов и кодов КОСГУ</a:t>
            </a:r>
            <a:endParaRPr b="0" lang="en-US" sz="1600" spc="-1" strike="noStrike">
              <a:solidFill>
                <a:srgbClr val="5141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85816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казаний № 180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рименение классификации операций сектора государственного управления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8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252360" y="360360"/>
            <a:ext cx="88916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Анализ типичных ошибок при применении классификации операций сектора государственного управления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ричины, которые приводят к возникновению типичных ошибок:</a:t>
            </a: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476280" y="2560680"/>
            <a:ext cx="8523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0680" indent="-490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корректная формулировка предметов государственных (муниципальных) контракт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днозначная трактовка  отдельных положений Указаний о порядке применения бюджетной классификации Российской Федер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рименение писем Минфина РФ и Федерального казначейства, разъясняющих положения приказов Минфина РФ «Об утверждении Указаний о порядке применения бюджетной классификации Российской Федерации», которые признанны утратившими сил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179280" y="574560"/>
            <a:ext cx="8964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исьма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Минфин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а 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Росси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разъясняющие положения Указаний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в части 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применени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я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классификации операций сектора государственного управления</a:t>
            </a: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252360" y="1979640"/>
            <a:ext cx="8667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0680" indent="-490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Особенности примене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ем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скрытие порядка применения классификации операций сектора государственного управл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беспечение единого подхода к применению классификации операций сектора государственного управл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тмена писем, разъясняющих порядок применения приказов Минфина России которые признаны утратившими сил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рименение писем, исключительно получателем письма  и органом, к которым он взаимодействует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налитические ко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еречни операций закрытыми не являют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КОСГУ в части, относящейся к доходам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31640" y="1700280"/>
            <a:ext cx="8280720" cy="4392720"/>
          </a:xfrm>
          <a:prstGeom prst="rect">
            <a:avLst/>
          </a:prstGeom>
          <a:solidFill>
            <a:srgbClr val="ff9966">
              <a:alpha val="3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у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«Классификация операций сектора государственного управл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иложения 1 «Классификация доходов бюджет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Указа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00 1 13 02060 00 00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3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ходы, поступающие в порядке возмещения расходов, понесенных в связи с эксплуатацией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2800" y="14839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рограмма Правительства Российской Федерации по повышению эффективности бюджетных расходов на период до 2012 года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(распоряжение Правительства Российской Федерации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от 30 июня 2010 года № 1101-р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3112920"/>
            <a:ext cx="876924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перечня разделов и подразделов (2010 - 201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правил установления и кодирования видов расходов (2011 - 2012 - 20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ход к программной структуре федерального бюджета (2013 - 20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Требуется корректировка положений БК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2800" y="333000"/>
            <a:ext cx="8970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16165d"/>
                </a:solidFill>
                <a:latin typeface="Times New Roman"/>
              </a:rPr>
              <a:t>Проект федерального закона № 116795-6</a:t>
            </a:r>
            <a:br>
              <a:rPr sz="2200"/>
            </a:br>
            <a:r>
              <a:rPr b="0" lang="ru-RU" sz="2200" spc="-1" strike="noStrike">
                <a:solidFill>
                  <a:srgbClr val="16165d"/>
                </a:solidFill>
                <a:latin typeface="Times New Roman"/>
              </a:rPr>
              <a:t>«О внесении изменений в Бюджетный кодекс Российской Федерации в части совершенствования бюджетного процесса и в отдельные законодательные акты Российской Федерации»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103320" y="1987560"/>
            <a:ext cx="9113760" cy="4900680"/>
          </a:xfrm>
          <a:prstGeom prst="rect">
            <a:avLst/>
          </a:prstGeom>
          <a:ln w="0">
            <a:noFill/>
          </a:ln>
        </p:spPr>
      </p:pic>
      <p:sp>
        <p:nvSpPr>
          <p:cNvPr id="261" name="Двойная стрелка влево/вправо 4"/>
          <p:cNvSpPr/>
          <p:nvPr/>
        </p:nvSpPr>
        <p:spPr>
          <a:xfrm>
            <a:off x="7380360" y="4221000"/>
            <a:ext cx="576360" cy="10800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360" y="692280"/>
            <a:ext cx="8971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Важные моменты, обособленные на уровне целевой статьи в 2013 году</a:t>
            </a: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(федеральный бюджет)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8920" y="1267920"/>
            <a:ext cx="8929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е целев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1 федеральная целевая программ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подпрограмм федеральных целевых програм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ельная нагрузка на уровне подпрограммного среза кода целевой статьи (взносы, мероприятия Сочи 201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Бюджетные инвестиции: взносы в уставные капиталы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ав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ных инвестиций (объект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гражданского/военно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наче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Публичные нормативные выплаты граждан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90 нормативных правовых актов – программный срез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150 видов выплат – подпрограммный сре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4) Ассигнования на организацию и проведение ХХII Олимпийских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имних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гр и ХI Паралимпийских зимних игр 2014 года в городе Сочи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города Сочи как горноклиматического курорт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395280" y="549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2012 год: общая лог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формирования структуры кода «программной» целевой стать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1779480"/>
          <a:ext cx="8785080" cy="3368880"/>
        </p:xfrm>
        <a:graphic>
          <a:graphicData uri="http://schemas.openxmlformats.org/drawingml/2006/table">
            <a:tbl>
              <a:tblPr/>
              <a:tblGrid>
                <a:gridCol w="928440"/>
                <a:gridCol w="1341720"/>
                <a:gridCol w="1218960"/>
                <a:gridCol w="723960"/>
                <a:gridCol w="933480"/>
                <a:gridCol w="1046160"/>
                <a:gridCol w="693720"/>
                <a:gridCol w="654120"/>
                <a:gridCol w="1244520"/>
              </a:tblGrid>
              <a:tr h="1560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ос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 гос. программы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ное меропри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680">
                <a:tc gridSpan="6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Акт Правительства РФ об утверждении государствен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инфин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4874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н.вр. 42 + 1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01 - 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23920" y="5129280"/>
          <a:ext cx="8812080" cy="1584360"/>
        </p:xfrm>
        <a:graphic>
          <a:graphicData uri="http://schemas.openxmlformats.org/drawingml/2006/table">
            <a:tbl>
              <a:tblPr/>
              <a:tblGrid>
                <a:gridCol w="6219720"/>
                <a:gridCol w="2592360"/>
              </a:tblGrid>
              <a:tr h="15843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Программная (непрограммная) составляющая кода целевой статьи устанавливаемая в соответствии со структурой государствен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Категории ЦСР, требующие обособлени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-   </a:t>
                      </a: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ФО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учре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воинские ч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ПНО, Сочи, объек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9359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14185"/>
                </a:solidFill>
                <a:latin typeface="Times New Roman"/>
                <a:ea typeface="Times New Roman"/>
              </a:rPr>
              <a:t>Структура кода классификации расходов бюджетов 2013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268280"/>
          <a:ext cx="8791560" cy="1738440"/>
        </p:xfrm>
        <a:graphic>
          <a:graphicData uri="http://schemas.openxmlformats.org/drawingml/2006/table">
            <a:tbl>
              <a:tblPr/>
              <a:tblGrid>
                <a:gridCol w="395280"/>
                <a:gridCol w="345960"/>
                <a:gridCol w="385920"/>
                <a:gridCol w="345960"/>
                <a:gridCol w="345960"/>
                <a:gridCol w="536760"/>
                <a:gridCol w="522360"/>
                <a:gridCol w="442800"/>
                <a:gridCol w="442800"/>
                <a:gridCol w="515880"/>
                <a:gridCol w="590760"/>
                <a:gridCol w="590400"/>
                <a:gridCol w="514440"/>
                <a:gridCol w="633240"/>
                <a:gridCol w="320760"/>
                <a:gridCol w="320760"/>
                <a:gridCol w="317520"/>
                <a:gridCol w="409680"/>
                <a:gridCol w="407880"/>
                <a:gridCol w="406440"/>
              </a:tblGrid>
              <a:tr h="262080"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авный распорядитель бюджетных средст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ид ра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СГ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720800" y="3925800"/>
          <a:ext cx="6350040" cy="2671920"/>
        </p:xfrm>
        <a:graphic>
          <a:graphicData uri="http://schemas.openxmlformats.org/drawingml/2006/table">
            <a:tbl>
              <a:tblPr/>
              <a:tblGrid>
                <a:gridCol w="895320"/>
                <a:gridCol w="947880"/>
                <a:gridCol w="498240"/>
                <a:gridCol w="397080"/>
                <a:gridCol w="927000"/>
                <a:gridCol w="666720"/>
                <a:gridCol w="227160"/>
                <a:gridCol w="895320"/>
                <a:gridCol w="89532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256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литическое распределение бюджетных ассигнов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3 года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(2014-2015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дов), сформированное в соответствии со структурой государственной программы/непрограммной ч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о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 гос. программы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Акт Правительства РФ об утверждении государствен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Плюс 2"/>
          <p:cNvSpPr/>
          <p:nvPr/>
        </p:nvSpPr>
        <p:spPr>
          <a:xfrm>
            <a:off x="4248000" y="3259080"/>
            <a:ext cx="648000" cy="647640"/>
          </a:xfrm>
          <a:custGeom>
            <a:avLst/>
            <a:gdLst>
              <a:gd name="textAreaLeft" fmla="*/ 85680 w 648000"/>
              <a:gd name="textAreaRight" fmla="*/ 562320 w 648000"/>
              <a:gd name="textAreaTop" fmla="*/ 247680 h 647640"/>
              <a:gd name="textAreaBottom" fmla="*/ 399960 h 647640"/>
            </a:gdLst>
            <a:ahLst/>
            <a:rect l="textAreaLeft" t="textAreaTop" r="textAreaRight" b="textAreaBottom"/>
            <a:pathLst>
              <a:path w="647700" h="647700">
                <a:moveTo>
                  <a:pt x="85853" y="247680"/>
                </a:moveTo>
                <a:lnTo>
                  <a:pt x="247680" y="247680"/>
                </a:lnTo>
                <a:lnTo>
                  <a:pt x="247680" y="85853"/>
                </a:lnTo>
                <a:lnTo>
                  <a:pt x="400020" y="85853"/>
                </a:lnTo>
                <a:lnTo>
                  <a:pt x="400020" y="247680"/>
                </a:lnTo>
                <a:lnTo>
                  <a:pt x="561847" y="247680"/>
                </a:lnTo>
                <a:lnTo>
                  <a:pt x="561847" y="400020"/>
                </a:lnTo>
                <a:lnTo>
                  <a:pt x="400020" y="400020"/>
                </a:lnTo>
                <a:lnTo>
                  <a:pt x="400020" y="561847"/>
                </a:lnTo>
                <a:lnTo>
                  <a:pt x="247680" y="561847"/>
                </a:lnTo>
                <a:lnTo>
                  <a:pt x="247680" y="400020"/>
                </a:lnTo>
                <a:lnTo>
                  <a:pt x="85853" y="4000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4"/>
          <p:cNvSpPr/>
          <p:nvPr/>
        </p:nvSpPr>
        <p:spPr>
          <a:xfrm flipH="1">
            <a:off x="1692000" y="2997360"/>
            <a:ext cx="1439640" cy="909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7"/>
          <p:cNvSpPr/>
          <p:nvPr/>
        </p:nvSpPr>
        <p:spPr>
          <a:xfrm>
            <a:off x="6875640" y="2997360"/>
            <a:ext cx="1152360" cy="909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7840" y="620280"/>
            <a:ext cx="8966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каз Министерства финансов Российской Федерации от 18 марта 2013 года № 3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"Об утверждении Указаний о порядке применения классификации расходов бюджетов для составления проектов федерального бюджета и бюджетов государственных внебюджетных фондов, начиная с бюджетов на 2014 год и на плановый период 2015 и 2016 годов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user</cp:lastModifiedBy>
  <dcterms:modified xsi:type="dcterms:W3CDTF">2013-05-28T10:16:25Z</dcterms:modified>
  <cp:revision>99</cp:revision>
  <dc:subject/>
  <dc:title>No Slide Title</dc:title>
</cp:coreProperties>
</file>